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35F2-EFF1-46BD-AC32-C6C1B1547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EE87-BC25-4284-9E5F-F98677D19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F76F-7512-404F-8549-A94FD476A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DBDD-75DD-45FB-99F5-59EB5C254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07F9B4-42D0-4B56-95FF-61FFD1C4DF1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3FAAB5-6996-4CBD-A98C-B6926939117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17D690-5109-44CB-8176-CDE5110B85D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135DC4-1B90-42BD-B859-0E754CF319C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857330-0DC3-4093-920A-FA3AC8DCCA0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ECAE76-E27C-4B2C-97DC-A37846434FE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F4650F-9C06-4064-97EA-34824545C6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10AA-6FEF-4199-9832-5F321B964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E5D6F7-86B5-46C4-9930-46F7BBD5251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909CBC-1A43-466E-96AB-B80A82A6E92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62264B-8F97-4663-9F5A-CF5D1C2C112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9978BF-8A25-4190-8ED8-BB43D018A1C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65B359-3DC3-4B71-B9B9-8DD531AFBF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FBCE-A54B-45BF-93F9-ADAC714EF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9F57-9710-425D-B34B-ECFFCF65A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CD49-B47E-4A96-B0DA-B70BC3069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7B5B-CC2D-4E39-86FF-6869973E6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A0E0-4858-47E6-A56E-A7520406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7BEC-1D37-471B-A7F9-54BC6CEA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B6F7-AE11-48EF-9133-C7558034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4E35B-F4C4-4665-8702-8A36B2AA66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FCCD4208-B00E-4F50-A8EB-FB1C925580B4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D53C61FB-2782-4510-AA1F-9C8AC105F03F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3B8A9-EE7A-4E7C-9942-E2E06DEC7E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-1440" y="2276640"/>
            <a:ext cx="9144000" cy="1657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Verdana"/>
              </a:rPr>
              <a:t>Contact Trac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PA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dromic surveillanc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transportation hubs and country b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ident Management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nel designed to lead th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ty to make decisions and release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bola Treatment Unit (ETU) [minimum: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ED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using WHO and MSF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olding/Isolation Un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olation o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SPECT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ing Infra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ly basic food/necessi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f need for repeat testing in 72 hou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formation Technology [not required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piInfo VHF software (CD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of easy data ex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ndatory reporting to WH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boratory Services must be identifie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not need to be in cou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er specimen packaging and shipment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Personnel Hier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Diagram 3" descr=""/>
          <p:cNvPicPr/>
          <p:nvPr/>
        </p:nvPicPr>
        <p:blipFill>
          <a:blip r:embed="rId1"/>
          <a:stretch/>
        </p:blipFill>
        <p:spPr>
          <a:xfrm>
            <a:off x="1511280" y="476280"/>
            <a:ext cx="5975280" cy="3589200"/>
          </a:xfrm>
          <a:prstGeom prst="rect">
            <a:avLst/>
          </a:prstGeom>
          <a:ln w="0">
            <a:noFill/>
          </a:ln>
        </p:spPr>
      </p:pic>
      <p:sp>
        <p:nvSpPr>
          <p:cNvPr id="115" name="Straight Connector 6"/>
          <p:cNvSpPr/>
          <p:nvPr/>
        </p:nvSpPr>
        <p:spPr>
          <a:xfrm>
            <a:off x="2362320" y="3962520"/>
            <a:ext cx="2057400" cy="34272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8"/>
          <p:cNvSpPr/>
          <p:nvPr/>
        </p:nvSpPr>
        <p:spPr>
          <a:xfrm>
            <a:off x="1752480" y="3962520"/>
            <a:ext cx="2514600" cy="76176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Diagram 7" descr=""/>
          <p:cNvPicPr/>
          <p:nvPr/>
        </p:nvPicPr>
        <p:blipFill>
          <a:blip r:embed="rId2"/>
          <a:stretch/>
        </p:blipFill>
        <p:spPr>
          <a:xfrm>
            <a:off x="914400" y="3743280"/>
            <a:ext cx="647388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estigation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ologists, psychosocial behavioral experts (for stigma and mental health related issues), and health communication experts (for education and networking issues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perience and training in probing contact tracing ques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terview a case about potential contac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tracer is concerned about the health status of a contact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ss the contact to determine whether they should be considered an EVD c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he contact is symptomatic and therefore a suspect case, they alert the field supervi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new case is identified through other means (i.e.-HC facility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sidence visit to identify all contac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lert contacts of their status, the contact tracing procedure, and offer sup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st all contacts on the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ntact Listing Form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of two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pid Response Team (RRT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for Investigation Team; subset of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le for the first case detected in a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call 24 hours a day and 7 days a we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nimum of two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Lead Epidemiologist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ined in contact tracing at the nation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sees all field supervisor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need to be continued to be follow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are a prio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can be discharged from follow-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unicate with other branches such as the case management team and logistical team when a contact becomes a suspect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nimum of one at the national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Field Supervisor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pidemiologist with prior contact tracing expe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gn tracers to cont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le challenges and questions that arise in the fie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ate the investigation team for a symptomatic conta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ss quality assurance meas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 data on current tracing eff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one field supervisor for 5-10 trac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Tracing Team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contact tracing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le and responsible, with cultural awar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it contacts every day for 21 da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ing / inquiring about the contact’s health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rganizing tracing teams by geographic areas may maximize efficienc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clude tracers from the specific or nearby communities to increase acceptability of contact tracing activities among community resid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least two tracers assigned to each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team to see 10-20 contact a day, or more depending on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ta Manag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data management experience and proficient computer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re: VHF EpiInfo datab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all data is entered electron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reports to the lead epidemiologist and W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vise those doing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neral 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989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explains how to conduct contact tracing to effectively control the Ebola virus disease (EVD) outbr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nsportation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terrain and ge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infection prevention and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identified suspect cases and confirmed cases to isolation units and E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ped with a transportation vehicle that can handle droplet precautions and allow for disinf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three people on a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for transport;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isinfection Team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al health officers or sanitar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itiza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ions where probable, suspected, and confirmed cases’ have been, locations where the initial identification occurred, and/or burial locations [depend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infection of transport vehic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ordinate with the transportation te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hould follow WHO and CDC guidelines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minimum of two members per tea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urial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memb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ial of deceased probable, suspected, and confirmed cases as well as conta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eam of at least 6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to carry the body, 1 to disinfect the body,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22360" y="1789200"/>
          <a:ext cx="8099280" cy="4146480"/>
        </p:xfrm>
        <a:graphic>
          <a:graphicData uri="http://schemas.openxmlformats.org/drawingml/2006/table">
            <a:tbl>
              <a:tblPr/>
              <a:tblGrid>
                <a:gridCol w="1816200"/>
                <a:gridCol w="976320"/>
                <a:gridCol w="760320"/>
                <a:gridCol w="869760"/>
                <a:gridCol w="768600"/>
                <a:gridCol w="647640"/>
                <a:gridCol w="838080"/>
                <a:gridCol w="812880"/>
                <a:gridCol w="609480"/>
              </a:tblGrid>
              <a:tr h="192600">
                <a:tc gridSpan="6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tact Tracing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ther Tea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ad Epidemiologi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Supervis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vestiga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cer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a Manag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infec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urial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rsonal Protective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posable Glo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ow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shield (or goggl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mask N95/FFP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rgical mask for the C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io-hazard plastic b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formation Technolo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lobal Positioning Sys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llular phones (with credi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u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lectronic Data Collection Too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hermo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ffice Suppl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ppropriate For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river/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l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el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osocial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quipment (including resources sli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cellular phone cre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ing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Sanit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nsport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for field supervisors, tracers, and investigation tea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is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el if using own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637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suspect, probable or confirmed case is first detected, the RRT is activ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acts must be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ing questions to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interviewing [case aliv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al Autopsy [case dea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hold and community vis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May require several interviews of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 ou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2"/>
          <p:cNvSpPr/>
          <p:nvPr/>
        </p:nvSpPr>
        <p:spPr>
          <a:xfrm>
            <a:off x="1605240" y="5157720"/>
            <a:ext cx="6052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Types of 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Touched body fluids of the patient (blood, vomit, saliva, urine, feces, sperm, swea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= Had direct physical contact with the body of the patient (alive or de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= Touched or cleaned the linens, clothes, or dishes of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Slept or ate in the same household as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2641680" y="4428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BOLA CONTACT LISTING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Object 4" descr=""/>
          <p:cNvPicPr/>
          <p:nvPr/>
        </p:nvPicPr>
        <p:blipFill>
          <a:blip r:embed="rId1"/>
          <a:stretch/>
        </p:blipFill>
        <p:spPr>
          <a:xfrm>
            <a:off x="147600" y="533520"/>
            <a:ext cx="884880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Li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s interviewed by the investigation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last date of contact with th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discrepancy, use the most recent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exposure stat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’, ‘low’, or ‘no risk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” and ‘Low’ risk persons will require follow-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ymptomatic contacts can continue daily activities if they have timely access to HC facilities in the event that they fall ill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definitions related to cases and contacts of patient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to prepare for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contact tracing should be conduct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contact tracing should be manag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how to maintain quality assurance during 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e Deemed a Contac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must occu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is notified of their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follow-up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e about E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them contact information for tracing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 them to notify the team if they move or leave the geographic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a Contact Becomes Ill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is changed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SPECT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ion team contacts the field supervi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ate transportation and disinfection t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ed to isolation unit for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*Need to initiate contact identification and contact listing for this new case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Follow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ily visits by tracing team for 21 d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-determined location and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lly, same team for the du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sure continuity and tr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nuances of contact’s daily rout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ome contacts are not found, they should be reported to the field supervis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d this on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cing Summary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eld Supervisor notifie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036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cing Summary Form (for Field Superviso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1828800" y="1125360"/>
            <a:ext cx="5413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ily Visit Scen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ontent Placeholder 2" descr=""/>
          <p:cNvPicPr/>
          <p:nvPr/>
        </p:nvPicPr>
        <p:blipFill>
          <a:blip r:embed="rId1"/>
          <a:stretch/>
        </p:blipFill>
        <p:spPr>
          <a:xfrm>
            <a:off x="360360" y="1060560"/>
            <a:ext cx="832644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uspect Case Cavi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has been sick for &lt;3 day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remain in isolation until repeat test on day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w classified as CONFIRMED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ported to E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estigation team continues with this case’s contact identification and trac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-classified as a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nues with previous 21 day follow-up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452520" y="2492280"/>
          <a:ext cx="8229600" cy="3678480"/>
        </p:xfrm>
        <a:graphic>
          <a:graphicData uri="http://schemas.openxmlformats.org/drawingml/2006/table">
            <a:tbl>
              <a:tblPr/>
              <a:tblGrid>
                <a:gridCol w="846000"/>
                <a:gridCol w="351000"/>
                <a:gridCol w="352440"/>
                <a:gridCol w="350640"/>
                <a:gridCol w="352440"/>
                <a:gridCol w="351000"/>
                <a:gridCol w="35244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</a:tblGrid>
              <a:tr h="1904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Fever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alai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uscle p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eadac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Sore Thro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Vomit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iarrhe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Ra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aemorrhage (unexplained bleeding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2"/>
          <p:cNvSpPr/>
          <p:nvPr/>
        </p:nvSpPr>
        <p:spPr>
          <a:xfrm>
            <a:off x="-37440" y="1197000"/>
            <a:ext cx="9154080" cy="11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ame: _______________________________________        Gender:_______      Age:  _______          Date of last contact (dd/mm/yy): ___________________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ddress:______________________________________        Telephone number: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tions: For each day, evaluate the contact for the symptoms below and write ‘yes’ if the contact has the symptom and ‘no’ if the contact does not hav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symptom. If a contact has any of the symptoms, immediately call the public health department at XXX-XXX-XXXX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itle 1"/>
          <p:cNvSpPr/>
          <p:nvPr/>
        </p:nvSpPr>
        <p:spPr>
          <a:xfrm>
            <a:off x="108000" y="-27000"/>
            <a:ext cx="892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ily Contact Follow-Up For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for Trace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Disch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following criteria are met on day 21, the contact is discharged from the tracing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 days of follow-up by the contact team have been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was evaluated on day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 available, discharge cannot occur until evalu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Initial Case Identification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Ebola case is identified by the surveillance syste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s activate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nterviews the case using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Ebola Virus Disease Case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ntact Questionnair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and  performs a household visit to establish a list of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tac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apid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sponse team meets with each contact and performs the following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sess the health status of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ert the contact of their statu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rview the contact with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he Ebola Virus Disease Case Contact Questionnai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plain the procedure of being traced daily for 21 d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 flight risk of the individu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dentify an appropriate meeting place and time with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pare the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lead epidemiologist assigns field supervisors based on the geographi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tribution of contac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i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    The lead epidemiologist distributes an updated contact list to fi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eld supervisors meet with their assigned tracing teams and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 the contact list for each team clustering contacts with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ic proxim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    The tracers meet each contact and perform the following tas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 of the contact’s general condition for any overt signs of ill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iew contact regarding health status (presence of absence of specific sympto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 out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ct Follow-Up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if they know of anyone else who is s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01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91628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  While tracer teams are evaluating contacts, the field supervisor provid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gistical support including the arranging the transportation of tracing teams and ensuring pay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ctivation of the investigative team for any contact that tracers identify as having developed symptom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Quality assurance to ensure accuracy of the tracer’s repor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end of the day, tracers contact their field supervisors and 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status of their conta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eld supervisors complete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r Summary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sed o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provided by the contact tracers and investigation team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ata is sent to both the lead epidemiologist and data mana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    The data manager or data entry staff enters the data electronic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ad epidemiologist reviews the data and sets up the lis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/ongoing contacts for the following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ACT TRACING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gisters information regarding cases and contac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duces daily reports, exporting for data analys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eographic mapping of contact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imely reporting of data and trend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sufficient resources and/or existing infrastructure exist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data collection in the field should be consi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E: Although the VHF EpiInfo Database is recommended, other databases such as WHO’s Field Information Management System (FIMS), can be utilized as well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incentives to partici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w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health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PPE for staff and their fami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 EVD surviv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staff in a timely ma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rs need proper training and resources for perform their job saf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ilor to the role of the staff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esher train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training if issues arise or operating procedures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certificate of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mbat rank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vide medical care while employ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ing for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following should be addressed and strictly enforced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enter communities that seem hostile, aggressive, or unwelco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try to impede contacts or cases that are trying to f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Of note, if security professionals interact with suspect, probable, or confirmed cases, depending on the situation they may meet the definition of a contact, and therefore, require tracer follow-up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ing questions to as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direct physic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sexu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lived with the case in the same househo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visited the case (at home, healthcare facility, funeral/burial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ces the case visited (i.e. work, pharmacy, church, extended family, traditional healers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alth facilities utilized by the case and all health care workers who cared for the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iderations for Contact Iden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alendars, holidays, or birthdays to assist with recall of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uspect, probable, or confirmed cases are notified of their status, fear is the likely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social support on the investigation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ultural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Enrollment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stical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treet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nick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ies without a national ID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S tracking of cont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aging community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Stig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s to overcome stig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ing and educating community leaders regarding EVD infection, transmission, and the community’s r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health communication campaig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psychosocial support to combat f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a “safe” meeting place/time for contacts that will not identify them as an EVD contact to their peers, family and/or commun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the process of identifying, controlling, and managing EVD to eliminate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atic follow-up during 21 days after the date of last 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incubation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ALITY ASSURANCE AND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vestigation Team/Rapid Response Team/Lead Epidemiologi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cases with a low number of reported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cautious when the numbers don’t match to previous cases with similar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re-interviewing the case, family, neighbors,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prompting for additional activities of daily liv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sure accurate assessment of a contact’s health status by trac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to interview and evaluate whether the assessment of the health status is similar to the tracers’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ld Supervisor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racers are visiting the contacts da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technology is readily available, employ mobile GPS tracking of the contact tra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ppropriate, take a picture of the contact or landmark to submit to field officer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and interview the contacts to ensure they have been receiving a visit by a tracer every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ays were missed, confirm they were accurately recorded by the tracing t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Measures: Must be 100%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ness of the weekly active surveillance repo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being traced da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followed for all 21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ases that had contact tracing implemented within 24 hours of case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contacts are not identified/missed, exponential EVD transmission is lik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tact tracing protocol must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e more investigation teams, field supervisors, and contact tra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efforts primarily on the high risk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 should be given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ing more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ring mor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dditional teams to accommodate expanding control efforts (i.e.; disinfection or burial te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Shift of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s may begin to focus primarily 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 ris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groups, in order to save direct resources in an appropriate ma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classification of contacts are based on the CDC guidelines†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tracing is essential for the identification, control, and elimination of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even one contact is missed, there is high likelihood for ongoing transmi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ritical that contact tracing is implemented quickly and managed sufficiently for the EVD response to be 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ediate identification of individuals who become symptomatic, and thus, contag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ping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mplemented quickly and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ACT*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person who interacted with a symptomatic EVD case (suspect, probable, or confirmed) in at least one of the following manne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case (dead or alive)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(dead) case at the fun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blood or body fluids of the case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s breastfed by the patient (for infan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clothes or linens of the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ept in the same household with a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igh vs Low Ris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utaneous or mucous membrane exposure to blood or body fluids of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skin contact with, or exposure to blood or body fluids of, a confirmed or suspect EVD patient without appropriate personal protective equipment (P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 blood or body fluids of a confirmed EVD patient without appropriate PPE or standard bio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contact with a dead body without appropriate PPE in a country where an EVD outbreak is occur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 contact with an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contact with EVD patients in health care facilities or community setting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eing within approximately 3 feet (1 meter) of an EVD patient or within the patient’s room or care area for a prolonged period of time (e.g., health care personnel, household members)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aving direct brief contact (e.g., shaking hands) with an EVD patient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categories of EVD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Suspect Case:  A person, dead or alive, with at least one of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known cause of bleed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, unknown cause of dea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contact with either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uspect, probable or confirmed EVD cas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ick or dead anim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at least three of the following symptom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adach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orexia / loss of appeti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ethar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hing muscles or joi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reathing difficul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omi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arrh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omach pa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fficulty swallow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ccup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Probable Case: Any suspect case that meets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d by a clinician and concluded to be infected with EV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ase is deceased but with a known epidemiological link to a confirmed case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Confirmed Cas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y suspect or probable case with a positive EVD laboratory result (PCR or serology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8:10Z</dcterms:modified>
  <cp:revision>142</cp:revision>
  <dc:subject/>
  <dc:title>DPC Training and Technical Update</dc:title>
</cp:coreProperties>
</file>